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345C-9EE5-4DED-AF5E-26FBDB7CC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9010-EAE0-4797-AFD8-4BAC94651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49BD-4D18-4DBE-BDD0-D6DB1DC7E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D18C-1C49-4508-93EF-7F306665F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2B98-A684-429F-B4BC-539442E0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445C-D44E-4A4E-AF27-D7A24E2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DC33-0806-45FC-8907-7A4DFD6F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A7FC-D95A-45D6-A213-67C7B30EF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FB82-7F50-4593-8724-A213E3B0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85D9-F5A0-4C67-BA21-359EF696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FF8-E4E8-4868-86EB-2ADBE209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83F6-A1FA-4AC1-94D0-CA0154B0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AA46-936A-4EFC-9C4A-7BCD7249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FBF-8EA9-4D2E-8957-DC3CB982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418-2167-4EEC-8B7B-B8BB2E23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C53-1C93-4DB5-92EA-F3F5C037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25D5-C5AA-4667-827A-0505D61B122E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D95D-16E8-4179-87FF-5BF02D14C1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Amplitude Mod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/Mixing in Frequency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mod produ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itional frequencie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tter modulator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bines carrier and intelligence signals widely separated in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/Mixing in Frequency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ing any two sine waves through nonlinear device produces following frequency compon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dc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onents at each of the two original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/Mixing in Frequency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ing any two sine waves through nonlinear device produces following frequency componen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onents at sum and difference frequencies of two original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armonics of two original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 in the Time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ed AM signal produces side frequencies or sidebands, one on each side of the carr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cilloscope dis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ime domain represent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ation of side frequencies require frequency domain display, such as spectrum analyz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or Representation of 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de frequ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deban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signal composed of th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per sideband (usb) at one-half carrier amplitude with frequency equal to carrier frequency plus modulating signal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hasor Representation of 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signal composed of th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wer sideband (lsb) at one-half carrier amplitude at carrier frequency minus modulation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Distribution in Carrier and Sideb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Tr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 amplitude and frequency always remain consta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debands changing in amplitude and frequenc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Distribution in Carrier and Sideb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 Tr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ier contains no information since it never changes; it does contain the most pow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debands contai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Amplitud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power of modulated AM signal higher than carrier alo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power achieved at 100% modula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st power contained within carri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information resides in carrier; its amplitude is const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information contained within varying-amplitude sideban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Amplitud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ed AM waveform result of multiplication of carrier and intelligence frequencies; special instance of mix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xing (modulation) achieved when signals applied to nonlinear devi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debands redundant, mirror images of each other; same information contained in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 of Amplitu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ing information signal, often one whose instantaneous peak voltage is constantly changing and whose range of occupied frequencies is relatively low, with a carrier, which is a relatively high-frequency sine wave of constant amplitud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Amplitude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ndwidth of modulated waveform is always twice highest modulating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 index must not exceed 1 (100% modulation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ing as close to 100% modulation desirable; power in sidebands greatest with high modulation percentag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pressed Carrier and Sing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Measur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power output of DSBFC AM transmitter is equal to carrier power plus sideband pow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ntional AM transmitters rated in terms of carrier power outpu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pressed Carrier and Sing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wer Measure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SB systems used for voice communications; do not generate a sinusoidal wavefor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SB transmitters and linear power amplifiers are rated in terms of peak envelope power (PEP)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pressed Carrier and Sing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dvantages of SS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effective utilization of available frequency spectru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s subject to effects of selective fad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er saved by not transmitting the carrier and one sideban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Suppressed Carrier and Sing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s of Sideband Transmis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single sideband (SS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-sideband suppressed carrier (SSBS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in-sideband suppressed carrier or independent sideband (ISB) tr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stigial sideb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tude-compandored single sideband (ACSS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 of Amplitu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ee characteristics of a sine wave carrier—amplitude, frequency, phase—can be modified to convey inform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Overview of Amplitude Mod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 has virtue of simplicity, both in generation at transmitter and detection at receive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uble-sideband, full-carrier (DSBFC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gle-sideband (SS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itizens band (C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ear de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rrent is linear function of vol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nlinear device or circu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s in current not directly proportional to changes in applied vol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 Wave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ximum amplitude when intelligence amplitude reaches maximum positive value; minimum when intelligence amplitude is at maximum negative val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ion Inde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ng signal amplitude continues to increa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never be allowed to occ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ulation Inde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olation of law in licensed system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ulation index (facto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601"/>
              </a:spcBef>
              <a:buClr>
                <a:srgbClr val="1191d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mbolized b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ratio of intelligence amplitude to carrier amplitude; quantifies extent to which intelligence varies carrier vol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Double-Sideband AM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mplitude Modulation/Mixing in Frequency Doma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x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signals at different frequencies combined in nonlinear devi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modulation distortion (intermo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desired mix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James Ramsey</cp:lastModifiedBy>
  <dcterms:modified xsi:type="dcterms:W3CDTF">2013-05-08T15:28:13Z</dcterms:modified>
  <cp:revision>5</cp:revision>
  <dc:subject/>
  <dc:title>Slide 1</dc:title>
</cp:coreProperties>
</file>